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8B3-23CC-46AF-BE0E-27D31ACF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CB3-7307-4F6C-877D-0B833A73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246-6F26-4A63-9BBF-FF8097CD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5DE-F68E-4672-A6A6-8EC990BD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BB2-2279-450A-B0A0-EFD9DDA7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3A3-B33E-466D-8E91-725FE708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E8F-25A0-4C39-A036-6984D7F5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D35-A728-44DE-B001-B9DCA845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E9AB-F93C-446A-B66E-0714F303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F3C-1C9B-46DF-917D-B5BB4617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EF5-3595-4B87-A076-B846FD01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971-9FFF-48E9-9CD3-4322506B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539F-DBC3-4AFA-87AC-896D47E1C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me Hammouam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Évaluation de la plai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Hammouamar" descr=""/>
          <p:cNvPicPr/>
          <p:nvPr/>
        </p:nvPicPr>
        <p:blipFill>
          <a:blip r:embed="rId1"/>
          <a:stretch/>
        </p:blipFill>
        <p:spPr>
          <a:xfrm>
            <a:off x="457200" y="2266920"/>
            <a:ext cx="403848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Hammouamar3" descr=""/>
          <p:cNvPicPr/>
          <p:nvPr/>
        </p:nvPicPr>
        <p:blipFill>
          <a:blip r:embed="rId2"/>
          <a:stretch/>
        </p:blipFill>
        <p:spPr>
          <a:xfrm>
            <a:off x="4648320" y="2266920"/>
            <a:ext cx="403848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1600200" y="5334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3/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27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7/4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me Hammouamar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valuation de la plai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ammouamar4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5480" y="5943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14/4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9:00:01Z</dcterms:created>
  <dc:creator>FROMANTIN</dc:creator>
  <dc:description/>
  <dc:language>en-US</dc:language>
  <cp:lastModifiedBy>FROMANTIN</cp:lastModifiedBy>
  <cp:lastPrinted>2003-04-08T09:02:17Z</cp:lastPrinted>
  <dcterms:modified xsi:type="dcterms:W3CDTF">2003-04-15T12:08:47Z</dcterms:modified>
  <cp:revision>2</cp:revision>
  <dc:subject/>
  <dc:title>Mme Hammouamar Évaluation de la plaie</dc:title>
</cp:coreProperties>
</file>