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B87-CA2B-4AD0-B023-927E1244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304-E78F-4054-85A2-4CD54F27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337-B637-4632-BA07-3BAB23CB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058-6771-4051-8389-CD2232D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0A4-4538-413D-963B-74099C5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F02-EC91-4546-A965-E135A523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8DA-FA4C-480D-91C4-16DEDF9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5BB-9D93-40B6-9D93-074CAF07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B54-69E0-48A6-BB22-B1FCB4B2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670-4D21-4663-85E0-FA2C49E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1E2-FD83-4A11-BAD1-4E1CAB9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C6B-1677-4BC3-933B-4A53EA9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06E9-5B69-4225-8501-48A7192D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e Hammouam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Évaluation de la plai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Hammouamar" descr=""/>
          <p:cNvPicPr/>
          <p:nvPr/>
        </p:nvPicPr>
        <p:blipFill>
          <a:blip r:embed="rId1"/>
          <a:stretch/>
        </p:blipFill>
        <p:spPr>
          <a:xfrm>
            <a:off x="457200" y="22669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Hammouamar3" descr=""/>
          <p:cNvPicPr/>
          <p:nvPr/>
        </p:nvPicPr>
        <p:blipFill>
          <a:blip r:embed="rId2"/>
          <a:stretch/>
        </p:blipFill>
        <p:spPr>
          <a:xfrm>
            <a:off x="4648320" y="226692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600200" y="5334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3/3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7/4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me Hammouama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valuation de la plai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ammouamar4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5943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14/4/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9:00:01Z</dcterms:created>
  <dc:creator>FROMANTIN</dc:creator>
  <dc:description/>
  <dc:language>en-US</dc:language>
  <cp:lastModifiedBy>FROMANTIN</cp:lastModifiedBy>
  <cp:lastPrinted>2003-04-08T09:02:17Z</cp:lastPrinted>
  <dcterms:modified xsi:type="dcterms:W3CDTF">2003-04-15T12:08:47Z</dcterms:modified>
  <cp:revision>2</cp:revision>
  <dc:subject/>
  <dc:title>Mme Hammouamar Évaluation de la plaie</dc:title>
</cp:coreProperties>
</file>